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A21-1963-4DF5-AD6D-D68BA139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916-E89A-42B0-B6F5-46AA7A89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34F-D68E-465D-8028-8D6F4C4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AB9-13AA-4BB3-9ED1-C438CFCB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2FA-2E2B-428D-8123-14CA6B7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582-342D-4A3A-B024-C7E85ABB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CBE-E864-429D-AFD8-D847E0AA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BBF-A369-47D7-AC5F-0F47F5D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F99-A32C-4CB7-B3DD-CAF50EC9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B69-4009-40D6-ABDC-36E79864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7F2-87EE-4113-BBAE-3DF1729E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CD3-7D9F-4C14-B2FA-A90DCA5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AF0-104D-4D2D-A51E-ECDC4E1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70E-55A4-4B39-B549-C5FBB903B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osidic bond/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lyc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functions of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uctural support, messengers, transport of materials, enzyme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primary” structure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s sequence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level of protein organization are ß-pleated sheets and the alpha-hel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yrimidine bases.  Describe their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ytosine, thymine,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le r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urine bases. Describe thei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enine, guanine  • doubl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mplementary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nsecutive nucleotides in a nucle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dieste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for 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sts/reagents are used to test for starch, lipids (2 tests), monosaccharides, and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ugols (iodine), translucence test, Sudan IV, Benedict’s reagent, Biuret re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2-18T22:34:42Z</dcterms:modified>
  <cp:revision>74</cp:revision>
  <dc:subject/>
  <dc:title>Carbohydrate Review</dc:title>
</cp:coreProperties>
</file>